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B51-09B6-40CF-AD01-6E73FAFB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1D3-853D-45EB-8CC3-B79896B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1F6-4D96-4864-BC20-E429FD75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AEB-40F7-4C64-B4E6-1AD7E6E0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86D-D82B-453B-BED5-E028B1B3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3B24-991D-4E2B-8AC1-424BC6B6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A01-5E40-446A-A954-AB631534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0247-5151-4CBF-8F3F-CC991C3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28C-A058-4B72-A930-AEB36057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B86-435A-4E0B-A423-BD6CC3D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782-69E5-4D5C-A047-BC2E2302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B2A-DD89-405B-9EA4-A5DAE983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BCFE-829C-4D88-8687-5CF67113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8EC5-D6EE-45A0-BC0E-69B0E93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4A74-71B6-44FA-9FF3-15F233CB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373-755D-44E1-8B8D-78108395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BB4-760A-4B4A-A08F-E600B122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C5D-39F5-433A-B0FA-53B436B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1A1-D3B2-4E59-952F-306FA9F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2FF-E1D7-444A-A225-1F34554C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22F-7C2F-40BB-86ED-882E993F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F3D-46CC-49A4-9EE5-F006A62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D34-5CF9-4B7A-8616-9AD9C59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35B-B860-41A0-8D81-4031D75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703F-5165-419A-9434-0EC487E356C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AB27-4AB5-4FD9-A345-F4D56D2F8C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8F8-0A6F-45FF-9B1B-909057E8F45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0ED-C371-41D2-85BE-27EC063451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Virtual Environment Team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4563-E89E-4F6C-8691-D8BE6AFC85A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9128BFC-F65C-4EE8-B399-1B7699E1D9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resourc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LCD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 sti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design drawings from H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96B-2A06-4EFE-9766-D806C43F5D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E5514-CE60-4E3D-B1F8-CA4B64B9C0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Vision…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virtual model creation process to interactively aid in the design, build, and realization phase of a hospital construc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0641" t="0" r="6388" b="0"/>
          <a:stretch/>
        </p:blipFill>
        <p:spPr>
          <a:xfrm>
            <a:off x="304920" y="3809880"/>
            <a:ext cx="335268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60352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809880" y="4343400"/>
            <a:ext cx="1981440" cy="1143000"/>
          </a:xfrm>
          <a:prstGeom prst="leftRightArrow">
            <a:avLst>
              <a:gd name="adj1" fmla="val 50000"/>
              <a:gd name="adj2" fmla="val 345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0D8-54F5-4004-BEE0-D17A2AEB28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6ECD7-C9F1-4669-B41E-1EAB2E3AF8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Hospital Design &amp; Build Proces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581280"/>
            <a:ext cx="7619760" cy="5335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91120" y="3649680"/>
            <a:ext cx="533160" cy="388800"/>
            <a:chOff x="4191120" y="3649680"/>
            <a:chExt cx="533160" cy="388800"/>
          </a:xfrm>
        </p:grpSpPr>
        <p:sp>
          <p:nvSpPr>
            <p:cNvPr id="105" name=""/>
            <p:cNvSpPr/>
            <p:nvPr/>
          </p:nvSpPr>
          <p:spPr>
            <a:xfrm>
              <a:off x="4191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620120" y="3649680"/>
            <a:ext cx="533160" cy="388800"/>
            <a:chOff x="7620120" y="3649680"/>
            <a:chExt cx="533160" cy="388800"/>
          </a:xfrm>
        </p:grpSpPr>
        <p:sp>
          <p:nvSpPr>
            <p:cNvPr id="108" name=""/>
            <p:cNvSpPr/>
            <p:nvPr/>
          </p:nvSpPr>
          <p:spPr>
            <a:xfrm>
              <a:off x="7620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8120" y="1752480"/>
            <a:ext cx="304776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44375"/>
              <a:gd name="adj5" fmla="val 156736"/>
              <a:gd name="adj6" fmla="val -63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between designers and end-users (care-giv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3179880" cy="146556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15078"/>
              <a:gd name="adj5" fmla="val -26912"/>
              <a:gd name="adj6" fmla="val 128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move-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rocess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876920"/>
            <a:ext cx="3505320" cy="173988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04300"/>
              <a:gd name="adj5" fmla="val -49625"/>
              <a:gd name="adj6" fmla="val 106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pancy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atient interaction outside of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90720" y="3657600"/>
            <a:ext cx="533160" cy="380880"/>
            <a:chOff x="990720" y="3657600"/>
            <a:chExt cx="533160" cy="380880"/>
          </a:xfrm>
        </p:grpSpPr>
        <p:sp>
          <p:nvSpPr>
            <p:cNvPr id="114" name=""/>
            <p:cNvSpPr/>
            <p:nvPr/>
          </p:nvSpPr>
          <p:spPr>
            <a:xfrm>
              <a:off x="9907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91120" y="3657600"/>
            <a:ext cx="533160" cy="380880"/>
            <a:chOff x="4191120" y="3657600"/>
            <a:chExt cx="533160" cy="380880"/>
          </a:xfrm>
        </p:grpSpPr>
        <p:sp>
          <p:nvSpPr>
            <p:cNvPr id="117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3657600"/>
            <a:ext cx="533160" cy="380880"/>
            <a:chOff x="7620120" y="3657600"/>
            <a:chExt cx="533160" cy="380880"/>
          </a:xfrm>
        </p:grpSpPr>
        <p:sp>
          <p:nvSpPr>
            <p:cNvPr id="120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16A-86AE-492C-AC06-F2BCE909D77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453F7-5110-453B-A1B8-6C4812EF38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6633"/>
                </a:solidFill>
                <a:latin typeface="Arial"/>
              </a:rPr>
              <a:t>Vision throughout design &amp; build process…</a:t>
            </a:r>
            <a:endParaRPr b="0" lang="en-US" sz="25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01992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14400" y="22860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6064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Design &amp; Build Proces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odel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2057040"/>
            <a:ext cx="4724640" cy="3962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5486400"/>
            <a:ext cx="533160" cy="380880"/>
            <a:chOff x="1371600" y="5486400"/>
            <a:chExt cx="533160" cy="380880"/>
          </a:xfrm>
        </p:grpSpPr>
        <p:sp>
          <p:nvSpPr>
            <p:cNvPr id="129" name=""/>
            <p:cNvSpPr/>
            <p:nvPr/>
          </p:nvSpPr>
          <p:spPr>
            <a:xfrm>
              <a:off x="1371600" y="54864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5486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520" y="4267080"/>
            <a:ext cx="533160" cy="380880"/>
            <a:chOff x="2819520" y="4267080"/>
            <a:chExt cx="533160" cy="380880"/>
          </a:xfrm>
        </p:grpSpPr>
        <p:sp>
          <p:nvSpPr>
            <p:cNvPr id="132" name=""/>
            <p:cNvSpPr/>
            <p:nvPr/>
          </p:nvSpPr>
          <p:spPr>
            <a:xfrm>
              <a:off x="2819520" y="42670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520" y="4267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24280" y="2666880"/>
            <a:ext cx="533160" cy="380880"/>
            <a:chOff x="4724280" y="2666880"/>
            <a:chExt cx="533160" cy="380880"/>
          </a:xfrm>
        </p:grpSpPr>
        <p:sp>
          <p:nvSpPr>
            <p:cNvPr id="135" name=""/>
            <p:cNvSpPr/>
            <p:nvPr/>
          </p:nvSpPr>
          <p:spPr>
            <a:xfrm>
              <a:off x="4724280" y="266688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676520" y="5486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in optimizing design before it’s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26708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way-finding tran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Process Effici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59092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interaction between patients, nur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 educate on way-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7E2-487E-4539-B3F5-D747D68FAB8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93E53-6493-44EB-A5B2-3810DEE61C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increase effectiveness with designing better workplaces by integrating verbal and behavioral feedbacks from n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.9% of nursing staff time was spent walking (Burgio et al.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impact of unit layout on the amount of time spent walking (Shepley 2002; Shepley and Davies 2003; Sturdavant 1960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5A7-3B53-49EE-AE96-01F6A40547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F9556-84E7-4743-8E62-82902F78A8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 Design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4797360"/>
            <a:ext cx="237672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136692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3708360" y="3668760"/>
          <a:ext cx="4319640" cy="28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668760"/>
                    <a:ext cx="431964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1600200"/>
            <a:ext cx="7786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s are randomly assigned to different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sked to explore the unit and perform several medic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s and time used, and their verbal feedbacks are col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5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66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97B-0F3F-4E43-88B7-749583EC18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AA6B1-8CE5-4C24-9804-F5799736ED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way-finding tran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cess efficiencies and reduc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ople with virtual environment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ining outperform people without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times to perform route task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33"/>
                </a:solidFill>
                <a:latin typeface="Arial"/>
              </a:rPr>
              <a:t>left-right directional judg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Hunt, M. E. (1984), Foreman, N., et al, (200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C63-ABDB-4291-AAE5-14A570DD56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F3BDD-A2B5-4256-9F31-666AD97370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Build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es will be trained to perform medical tasks with the optimized routes before they move into new build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nurses may have different tasks/ dest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2810" t="0" r="31672" b="23955"/>
          <a:stretch/>
        </p:blipFill>
        <p:spPr>
          <a:xfrm>
            <a:off x="3780000" y="342900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0000" y="3860640"/>
            <a:ext cx="2592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rse in ICU will be trained to locate key loc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peopl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422100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724280"/>
            <a:ext cx="360360" cy="2160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229360"/>
            <a:ext cx="360360" cy="21564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5300640"/>
            <a:ext cx="287280" cy="2890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436-A8EE-41B1-A160-AB2ACC3E85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7AD66-004F-496F-94E7-8E26B065C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6633"/>
                </a:solidFill>
                <a:latin typeface="Arial"/>
              </a:rPr>
              <a:t>3.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ccupancy Phas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transparency of the environment to patients and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the virtual environment to know how to find key locations in the hospita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3887640"/>
            <a:ext cx="6337080" cy="297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27640" y="5661000"/>
            <a:ext cx="1224000" cy="720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3860640"/>
            <a:ext cx="2160720" cy="120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: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: 20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B74-7A58-40E5-9B38-CDF4CC8C74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825C0-5926-457C-BB52-306052A00A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2:05:40Z</dcterms:created>
  <dc:creator>Lu, Yi</dc:creator>
  <dc:description/>
  <dc:language>en-US</dc:language>
  <cp:lastModifiedBy>Lu, Yi</cp:lastModifiedBy>
  <dcterms:modified xsi:type="dcterms:W3CDTF">2007-10-25T19:24:37Z</dcterms:modified>
  <cp:revision>5</cp:revision>
  <dc:subject/>
  <dc:title>Virtual Environment Team</dc:title>
</cp:coreProperties>
</file>